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0FC-47FF-4744-AF8E-5A0C776C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A7A2-F12F-48B2-B32A-712D7CBE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E08-7EDC-4BC7-A01C-D9A00832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BAE3-1424-44B7-8D95-5E9DAA0E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A5E6-FB0B-4EF3-A908-CADEBF93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8A2-16A3-414C-8F52-17D06207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2A6-1F17-4777-B157-59559476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75F9-E7C7-4661-84D7-E774B07C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FBFE-C66C-4629-873E-5D0ABA98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4DF-046F-4A0B-ABB3-C61E9362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512-6855-419C-AA04-562D237A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C12-881D-461F-8704-2709878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D3C0-018D-46E5-B537-774B473D28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826920" y="2924280"/>
            <a:ext cx="554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914400" y="457200"/>
            <a:ext cx="7635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ve and Marriage: Case of The Tablighi Jama’at and Young Bangladeshi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1566720" y="2949480"/>
            <a:ext cx="666288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Cambria"/>
              </a:rPr>
              <a:t>Paper presented at ESRC-World Religion Workshop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halkboard"/>
                <a:ea typeface="Cambria"/>
              </a:rPr>
              <a:t>ISLAM, LOVE AND MARRIAGE: NEW CHOICES FOR A NEW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January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0103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wZb wPj­v w`e| wZb wPj­v †`Iqvi ci we‡q Ki‡ev BbkvAvj­vn| ....wZb wPj­v w`‡j `xN© mgq Avj­vni iv¯—vq _vKv hvq Avi Avj­vni ûKzg †K cÖvavb¨ †`evi GKwU †hvM¨Zv P‡j Av‡m| A‡bK wdrbv-d¨vmv` `ywbqv‡Z †Zv, nvjvj-nvivg, Rv‡qR-bv Rv‡qR| nvjv‡ji Dci Pjvi †hvM¨Zv P‡j Av‡m| Gi Av‡M gv‡b Cgv‡bi †hvM¨Zvi Av‡M hw` we‡q Kiv nq Zvn‡j Zv GKUz KwVb n‡q hvq| nvjvj KvgvB Kiv, hv‡qR cš’vq Pjv KwVb n‡q hvq|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Zvi gv‡b G‡Z K‡i wK Avcbvi Øx‡bi cÖwZ Ae¯’vbwU Av‡iv k³ nq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8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n¨v| k³ Kiv `„p Kivi Rb¨B wZb wPj­vn w`‡Z Pvw”Q| hv‡Z cvwievwiK wewfbœ welq¸‡jvi g‡a¨ Bmjvg‡K cÖwZôv Ki‡Z cvwi| ...Avwg w_wmm Rgv w`‡qB P‡j hve wPj­v‡Z| wPj­v †_‡K G‡m c­¨vb Ki‡ev we‡qi|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001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we‡qi gva¨‡gB GKRb cyi“l bvbv iKg cvc n‡Z evuP‡Z cv‡i| GB Rb¨ ejv nq †h, GKRb weevwnZ cyi“‡li Bev`Z AweevwnZ GKR‡bi †_‡K A‡bK gReyZ nq| we‡q Kivi d‡j Ab¨ bvixi cÖwZ Zvi AvMÖn Ges wb‡Ri `„wó Ges wPš—v fvebvi cÖwZ k³ wbqš¿b ˆZwi nq| †hUv GKRb AweevwnZ cyi“‡li Rb¨ A‡bK KwVb|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Bmjv‡gi aviYvB Avgvi aviYv| Avgvi wb‡Ri †Zv †Kvb aviYv †bB| Bmjv‡gi †h aviYv †mUv n‡”Q GKRb †eMvbv †g‡q †jvK †K †`Lv †Zv Rv‡qR bvB| Bmjv‡g hv‡qR K‡i bvB| hw` Ri“ix †Kvb KvR bv _v‡K, wKsev Ri“ix †Kvb KvR _v‡K Zvn‡j c`©vi Avov‡j †_‡K K_v ej‡Z n‡e| Ggwb‡Z K_v evZ©v ejv wb‡la| myZivs GLv‡b †cÖ‡gi †Kvb my‡hvM bvB|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52280"/>
            <a:ext cx="8229600" cy="65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utonnyMJ"/>
                <a:ea typeface="Times New Roman"/>
              </a:rPr>
              <a:t>we‡q‡Z mybœZ n‡jv Iqvwjgv| Iqvwjgv n‡jv eD fvZ| gv‡b †Q‡j‡`i AvwZœq ¯^Rb Ges †g‡qi AvwZœq ¯^Rb‡K †hUv LvIqvq, †mUv n‡jv Awjgv| Bmjv‡gi `„wó‡Z eihvÎv bvB| Ggb †Kvb eva¨ evaKZv bvB †h, e‡j bv Avgiv GB KqRb hve, Zv‡`i LvIqv‡Z n‡e Ggb †Kvb eva¨evaKZv bvB| AwjgvUvB nIqv mybœZ Ges GUv we‡qi wZbw`b Gi g‡a¨B nIqv mybœZ| Avi †g‡qi Abyôvb Kivi eva¨evaKZv bvB| n¨v hw` Ggb nq †h, Kv‡iv hw` mvg_©¨ _v‡K, †m hw` †gngvb`vix Ki‡Z Pvq †mUv wVK Av‡Q| GUv eihvÎvi ch©v‡q co‡e bv| †mUv  ‡gngvb`vixi ch©v‡q co‡e| GiRb¨ †m †bKx cv‡e †g‡qi evev| Avj­vn Avgv‡K mvg_©¨ w`‡Q, Avwg GB KqR‡bi †gngvb`vix Ki‡Z PvB| wKš—y GLb Avgv‡`i mgv‡R GUv Pj‡Z‡Q eva¨evaKZvi ch©v‡q, †h Avgvi GB KqRb eihvÎx hve| Avi GKUv n‡jv Mv‡q njy`| m¤úyb© bv Rv‡qR| ¯^vgx eBmv Av‡Q ei eBmv Av‡Q †Q‡jiv AvBmv gy‡L njy` gv‡L, †g‡qiv AvBmv Mv‡j njy` gv‡L| Av‡i Avgvi RvgvB Gi Mv‡j Zzwg njy` gvLev †Kb| †Zvgvi RvgvB bvB, †Zvgvi RvgvB Gi Mv‡j Zzwg njy` gvL| Avgvi wewei Mv‡j Zzwg njy` gvLev †Kb? Zzwg cyi“l, Zzwg †Zvgvi eD Gi Mv‡j wMqv njy` gvL| c`©v bó nBZv‡Q, Mv‡q ¯úk© nBZv‡Q, †`Lv †`wL nBZv‡Q| Gi Øviv KZ †Rbv QovB‡Z‡Q| m¤ú~b© bvRv‡qR Mv‡q nj~`| Mv‡q njy` bv‡g Bmjv‡g †Kvb weavbB bvB|</a:t>
            </a:r>
            <a:r>
              <a:rPr b="0" lang="en-US" sz="2400" spc="-1" strike="noStrike">
                <a:solidFill>
                  <a:srgbClr val="000000"/>
                </a:solidFill>
                <a:latin typeface="SutonnyM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66760" y="10526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ZvejxM RvgvZ wK Advi ev cÖ¯—ve Ki‡Q Zi“b cÖR‡b¥i Kv‡Q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utonnyMJ"/>
                <a:ea typeface="Times New Roman"/>
              </a:rPr>
              <a:t>Zviv Ggb †Kvb wKQz Avgv‡`i mvg‡b Zz‡j ai‡Q bv ev Advi Ki‡Q bv, †hUv Bmjv‡g GK`g bZzb|</a:t>
            </a:r>
            <a:r>
              <a:rPr b="0" lang="en-US" sz="2400" spc="-1" strike="noStrike">
                <a:solidFill>
                  <a:srgbClr val="000000"/>
                </a:solidFill>
                <a:latin typeface="SutonnyMJ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utonnyMJ"/>
                <a:ea typeface="Times New Roman"/>
              </a:rPr>
              <a:t>Gi gva¨‡g Zviv mybœZ †K Zv‡`i Rxe‡bi mKj †¶‡Î cÖwZwôZ Ki‡Z cvi‡Q ev Pv‡”Q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utonnyMJ"/>
                <a:ea typeface="Times New Roman"/>
              </a:rPr>
              <a:t>mvgMÖxKfv‡e Zviv BmjvgxK Av`‡k© Zv‡`i Rxebe¨ve¯’v‡K M‡o †Zvjvi cÖwZ †Rvo w`‡”Q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utonnyMJ"/>
                <a:ea typeface="Times New Roman"/>
              </a:rPr>
              <a:t>mvgMÖxK fv‡e Zviv GKwU bZzb ai‡bi Rxeb e¨e¯’vi K_v ej‡Q †hwU Avevi GKwU Ô†kvabÕ cÖwµqvi gva¨‡g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urney of ‘purification’</a:t>
            </a:r>
            <a:r>
              <a:rPr b="0" lang="en-US" sz="2400" spc="-1" strike="noStrike">
                <a:solidFill>
                  <a:srgbClr val="000000"/>
                </a:solidFill>
                <a:latin typeface="SutonnyMJ"/>
                <a:ea typeface="Times New Roman"/>
              </a:rPr>
              <a:t>) eZ©gvb mg‡q KvR K‡i hv‡”Q|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5680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utonnyMJ"/>
              </a:rPr>
              <a:t>ZvejxM RvgvZ K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utonnyMJ"/>
              </a:rPr>
              <a:t>1920 Gi `k‡K ZrKvjxb fviZxq Dcgnv‡`‡ki, w`j­xi †gIqvZ bvgK GKwU `wi`ª gymwjg GjvKv‡Z gvIjvbv †gvt BwjAvm (it) (1885-1944) Øviv cÖwZwôZ|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utonnyMJ"/>
              </a:rPr>
              <a:t>gymjgvb‡`i ‰bwZK ms¯‹vi cÖvqmtB hv‡K ejv nq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‘making Muslims true Musl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utonnyMJ"/>
              </a:rPr>
              <a:t>wPj­v †K we‡ePbv Kiv nq GB Bmjvgx `vIqvZx Cgvbx Av‡›`vj‡bi cÖavb eywbqv`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SutonnyMJ"/>
              </a:rPr>
              <a:t>eZ©gvb mg‡qi me©e„nr Ges we¯—…Z BmjvgxK Av‡›`vjb wn‡m‡e ZvejxM †K we‡ePbv Kiv nq: we‡k¦i cªvq 165 wU †`‡k ZvejxM KvR Ki‡Q (wmKv›`, 2002)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Research Method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857160" y="1880640"/>
            <a:ext cx="757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utonnyM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-depth Int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utonnyM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1" lang="en-GB" sz="2400" spc="-1" strike="noStrike">
                <a:solidFill>
                  <a:srgbClr val="000000"/>
                </a:solidFill>
                <a:latin typeface="SutonnyMJ"/>
              </a:rPr>
              <a:t>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ulti-Sited Ethn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utonnyM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articipant Observation</a:t>
            </a:r>
            <a:r>
              <a:rPr b="1" lang="en-GB" sz="2400" spc="-1" strike="noStrike">
                <a:solidFill>
                  <a:srgbClr val="000000"/>
                </a:solidFill>
                <a:latin typeface="SutonnyM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SutonnyMJ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utonnyMJ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r>
              <a:rPr b="1" lang="en-GB" sz="2400" spc="-1" strike="noStrike">
                <a:solidFill>
                  <a:srgbClr val="000000"/>
                </a:solidFill>
                <a:latin typeface="SutonnyMJ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52280" y="304560"/>
            <a:ext cx="86868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SutonnyMJ"/>
                <a:ea typeface="Times New Roman"/>
              </a:rPr>
              <a:t>wewe hw` w`b`vi nq e‡j Avcbvi Rb¨ me wKQz Avnmvb| Avi Kvj wKqvg‡Zi w`b Avcbv‡K Avj­vni Kv‡Q Revew`wn Ki‡Z n‡e| gwnjvi wR¤gv`vix Avcbvi| gwnjv ZLb ej‡e| Avgvi ¯^vgx Avgv‡K Lvevi w`‡Q, Kvco w`‡Q, wKš‘ w`b`vix ‡mLvq bvB| Avi w`b`vix bv _vKvi Rb¨ Zzwg Avgv‡i Rvnvbœv‡g w`‡ZQ , Avgv‡K †`evi Av‡M Avgvi ¯^vgx‡K `vI| Avi hw` ¯^vgx w`b`vix †kLvq ZLb GB ¯¿xi mycvwi‡k ¯^vgx‡K Rvbœv‡Z w`‡e| cÖ‡Z¨KUv cyi“‡li AvÛv‡i 4Uv gwnjv| GKRb gwnjv GB PviRb‡K Rvnvbœv‡g wb‡q †h‡Z cv‡i| cÖ_g Zvi evev hw` Zv‡K w`b`vix bv †kLvq, 2q Zvi fvB, 3q Zvi ¯^vgx Gi ci Zvi †Q‡j| w`b`vix bv †kLv‡j GB PviRb‡K †m Rvnvbœv‡g wb‡q †h‡Z cv‡i| GKUv †g‡q Rvbœv‡Z hv‡e †Zv GB PviRb‡K wb‡q hv‡e| GB Rb¨ LyeB Ri“ix w`b`vix †kLv‡bv| Avi hw` w`b`vix †k‡L bv, Avcwb kvK fvZ wb‡q Avm‡eb, Avcbvi wewe mš‘ó| Avjnvg`yj Bj­vn, †`L †Zvgvi evev GB wb‡q Avm‡Q ..†Q‡j †g‡q‡`i‡KI †evSv‡e| A‡b‡K e‡j GUv Lve bv, IUv Lve bv| †evSv‡e †`L †Zvgvi evev Kó K‡i Avb‡Q, GUv nvjvj Gi g‡a¨ eiKZ Av‡Q| `ywbqv‡Z †Zvgiv GB Lvbv †L‡q mš‘ó _vK, Rvbœv‡Z Avj­vn ZvAvjv †Zvgv‡`i‡K Ggb Ggb Lvevi LvIqv‡e| wewe hLb w`b`vi nBj ZLb †mB Lvev‡ii Dci mš—ó| c­vm †Q‡j-‡g‡q‡`i‡KI mš‘ó K‡i †dj‡Q, gvbv‡q †dj‡Q| GKUv gv wKš‘ GKUv †Q‡j †K hv B”Qv ZvB LvIqv‡Z cv‡i eywS‡q mywS‡q| Avi hw` w`b`vi bv nq, Avcwb hw` fvj wRwbmI Av‡bb| Zvi hw` gbcyZ bv nq, Ab¨ AvB‡Ug LvB‡Z gb PvB‡Q, Q¨vb Q¨vb Ki‡e| Zi evev GBwW Avb‡Q, LvB‡j Lv, bv LvB‡j PBjv hv| GB me Dëv cvëv eySv‡e, †Zv †Q‡j †g‡q‡`i gv‡S †Lvf  n‡e| Zvi evevi wei“‡× GKUv Awf‡hvM Avm‡e| evev GBUv Kij bv †Kb, IBUv Kij bv †Kb| Avi hZB w`‡eb ZZB n‡e bv| Avi hw` w`b`vi nq, GKUv Kvco †`b, †m GK eQ‡i GB Kvc‡o KvwU‡q w`‡e| Aí mvgvb¨ Lvevi Av‡bb, Avjnvg`ywjj­vn ïKwiqv Av`vq Ki‡e| Avcbvi gvbmv †gvZv‡eK Pj‡e, Avcbvi †L`gZ Ki‡e, Avcbvi AebZ n‡q Pj‡e| GKUv K_vB‡Zv Av‡Q, GKUv wkKwLZ  gv `vI, Avwg GKUv wkKwLZ  RvZx Dcnvi †`e| GKUv w`b`vi gv hw` nq bv, GB wQjwQjv †_‡K hZ    mš—vb Avm‡e mevB w`b`vi n‡e|</a:t>
            </a:r>
            <a:r>
              <a:rPr b="0" lang="en-US" sz="1900" spc="-1" strike="noStrike">
                <a:solidFill>
                  <a:srgbClr val="000000"/>
                </a:solidFill>
                <a:latin typeface="SutonnyMJ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1420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.....c`©v Kivi Kvi‡YB Zviv N‡ii gv‡S _v‡K| evwn‡i hvq bv| Gi Kvi‡Y Aci †Kvb cyi“‡li mv‡_ Zv‡`i †gjv‡gkv bvB| cyi“‡li AvPvi AvPiY I Zv‡`i m½ m¤ú‡K© Zv‡`i †Kvb aviYv †bB| hvi Kvi‡Y †mB †g‡q †h ¯^vgxUv cvq IB ¯^vgx †_‡K hZUzKzB cvq, ZZUzKzB Zviv A‡bK eo g‡b K‡i| GBWv †Zv GZw`b cvB bvB, GLb cvBZvwQ| GUv †Zv A‡bK fvj wRwbm| ‡m †hUv cvq ¯^vgxi cyiv fvjevmvUv cvq| Avi †m Zvi cy‡iv fvjevmvUvI Zvi ¯^vgx‡K †`q| Zvi fvjevmvi gv‡S †Kvb fvM ev‡Uvqviv nq bv| hvi Kvi‡Y ¯^vgxUvI cyi“ kvwš— cvq Ges weweUvI cyiv kvwš— cvq| Avi Zvi evwn‡ii AwfÁZv bvB, ZvB ¯^vgx †hUv Zv‡K †`q †mUv wb‡qB †m Lywk _v‡K|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990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we‡q‡Z  Bmjv‡gi weavb n‡jv wK, †Q‡jUv GKUz Avc nIqv Avi †g‡qUv GKUz WvDb nIqv| Ggb n‡j me‡P‡q mg‡SvZv Av‡m| wgj nq| G‡Z †hUv nq, †g‡qi †h gh©v`v  †mB gh©v`v Gi evB‡i †m PvB‡ZB cv‡i bv| Avi Zvi wb‡Ri gh©v`v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tatus)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 Abyhvqx hw` Pvq, Zvn‡j †Q‡ji mvg‡_¨©i g‡a¨B _v‡K| †Q‡j †h‡nZz GKUz Avc| Avi GB mgq †g‡qUvI ¯^vgxi Awa‡b wg‡j Pj‡Z cv‡i| Zvi An¼vi _v‡K bv| ej‡Z cv‡i bv †h, Avgvi evevi GB Av‡Q, †Zvgvi wK Av‡Q| GUv me mgq  Zviv gvwb‡q Pj‡Z cv‡i| bv n‡j †g‡q‡`i  An¼vi P‡j Avm‡Z cv‡i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1295280" y="2209680"/>
            <a:ext cx="640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990720" y="1909800"/>
            <a:ext cx="73911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mvsmvwiK Rxe‡b wKš‘ Lye eÜzZ¡c~b© GKUv m¤úK© _vKv DwPZ| Avgv‡`i bweRx wb‡RI Zvi wewe‡`i mv‡_ †Ljvayjv Ki‡Zb| nvwm VvÆv Ki‡Zb| GKRb eÜzi gZ K‡iB| Dwb †Zv Zvi wewe M­v‡mi †h ¯’v‡b gyL w`‡q cvwb †L‡Zb, †mB ¯’v‡b wZwbI gyL jvwM‡q cvwb †L‡Zb| GUv gneŸ‡Zi D`vniY| wewe‡`i †K wbR nv‡Z LvB‡q w`‡Zb| cvi®úwiK GKwU kª×v‡eva _vK‡Z n‡e GKR‡bi cÖwZ Avi GKR‡bi| wewe †K †`L‡Z n‡e GKRb eÜz wn‡m‡e|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0948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we‡qi ci Zvi mKj `vq-`vwqZ¡ Avgvi| Avwg PvB Avgvi wewe evmvq _vKzK| Ni mvgjv‡biv `vwqZ¡ Zvi| Avwg Av‡M ‡_‡KB PvB bv Avgvi wewe Re Ki“K| Avi GUv Zvejx‡M fvjfv‡e Ryivi ci Av‡iv †cv³ nB‡Q| Av‡M Avwg hLb GUv ejZvg Avgvb eÜz evÜeiv Avgv‡K cÖkœ KiZ GUv wb‡q| gvby‡li †Zv Pvwn`vi †Kvb †kl bvB| GLb †`‡Lb XvKvi ‡ekxi fvM gvbylRb ¯^vgx-¯¿x `yR‡bB Re Ki‡Q| wKš‘ G‡Z K‡i Zv‡`i LiPI evo‡Q| me wgwj‡q †mB Av‡Mi Ae¯’v‡bB _vK‡Q| eis hv nq, G‡Z K‡i gvby‡li Rxe‡bi kvwš— K‡g hv‡”Q| Avwg PvB bv Avgvi mš—vb Zvi gv‡qi KvQ †_‡K A‡a¨©K gv‡qi Av`i hZœ cvK| Avwg PvB Zviv †hb Zvi gv‡qi KvQ †_‡K cy‡ivUvB cvq| wewe evB‡i KvR Ki‡j GUv m¤¢e bv| Avgv‡K A‡b‡KB nq‡Zv e¨vK †W‡UW ej‡Z cv‡ib, Z‡e Avwg Gfv‡eB wPš—v KiwQ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0040" y="4568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utonnyMJ"/>
                <a:ea typeface="Times New Roman"/>
              </a:rPr>
              <a:t>wPj­vUv n‡q †M‡j Avwg GK eQ‡ii Rb¨ wPš—v gy³| Avi GmgqUv‡Z Avwg we‡qi welq¸‡jv †kl K‡i †dj‡Z cvwi| Avi †bmvex wPj­vUv Avm‡jB ¸i“Z¡c~b© hviv wZb wPj­v Kgwc­U K‡i‡Qb| gyi“eŸxiv memgqB GUvi Dci †Rvo †`b| GUv wbqwgZ fv‡e bv Ki‡j Kv‡Ri †Rj­vUv bó n‡q hvq Ges gvbyl `ywbqvi Kv‡Ri cÖwZ Av‡iv Sz‡K c‡o| GB †h Avwg `ywbqvex Kv‡Ri Rb¨B GLbI Avgvi †bmvex wPj­vUv w`‡Z cviwQ bv| ZvB wbqwgZfv‡e Ki‡j Kv‡Ri †gnbZ †_‡K `y‡i m‡i hvevi fqUv Avi _v‡K bv| Ab¨w`‡K Avgvi GKUv B”Qv n‡jv Avwg Kw¤úDUvi ev AvBwUi Dci GKUv wW‡c­vgv Kie| Gici wb‡RB GKUv e¨emv w`e| GUv Kivi Rb¨I wKQz UvKv Ges mgq Gi cÖ‡qvRb| GLb hw` Avwg wPj­vUv bv w`‡q Avwg GUv ïi“ Kwi Zvn‡j †`Lv hv‡e †h, Avwg Av‡iv AvU‡K hve| ZvB GLb Avgvi Kv‡Q ¸i“Z¡c~b© n‡”Q wPj­vUv †kl Kiv| GLb hw` Avwg Gme wel‡qi mv‡_ hy³ n‡q cwo Zvn‡j Avgvi ‡bmvex wPj­vUv Kiv KwVb n‡q ci‡e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1:16:56Z</dcterms:created>
  <dc:creator>srsmbs</dc:creator>
  <dc:description/>
  <dc:language>en-US</dc:language>
  <cp:lastModifiedBy>Geoffrey Samuel</cp:lastModifiedBy>
  <dcterms:modified xsi:type="dcterms:W3CDTF">2011-06-29T17:26:40Z</dcterms:modified>
  <cp:revision>197</cp:revision>
  <dc:subject/>
  <dc:title>Slide 1</dc:title>
</cp:coreProperties>
</file>